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4A4-CE5D-48B5-92AB-EDDB9EC4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971-0CFD-4DD1-A6DB-CE4B9B0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3F3-01B3-42AA-A9AC-725CEF12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B90-0A3B-498D-BF22-8CE7967C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AAE-EB50-418C-B6DF-0ED322F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E71-4A9B-492B-A4CE-A16E632D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E50-2B6A-4104-B9B0-7377FD5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011-A671-4FA4-A4F5-46565854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783-C156-44DD-B662-0778F4E7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737-09E3-4C5D-B678-233ACA93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9E9-2927-4DF1-B2E9-9B861DE0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B05-7E12-4459-9ADE-AE51689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DA8-15DD-47BA-B46F-76936E4CAD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5229360"/>
            <a:ext cx="4895640" cy="30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دير عناي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386064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06400" y="4702320"/>
            <a:ext cx="9362880" cy="176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4116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71520"/>
            <a:ext cx="9144000" cy="328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راهب عَ هالتلِّ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محبـِسْتَك عَم بتصلِّي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0040"/>
            <a:ext cx="884556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من قَلب الفادي تملِّ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حبّه وطُهر وتتهنّى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-130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5435640" y="189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الأرض اللي حبّ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2920" y="0"/>
            <a:ext cx="4321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ن دم قلبك روَّ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618840"/>
            <a:ext cx="9144000" cy="33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1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لحتا زرعتا وساويت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18360" y="371520"/>
            <a:ext cx="5160960" cy="24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ابا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 تتغنَّى</a:t>
            </a:r>
            <a:r>
              <a:rPr b="0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482" t="3795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1805040" y="468360"/>
            <a:ext cx="8902440" cy="57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سان كامل خيّ 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جبول محبّه عَ الحِ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لِّينا نحنا و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الأخُوِّه نتكنَّى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768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1" name=""/>
          <p:cNvSpPr/>
          <p:nvPr/>
        </p:nvSpPr>
        <p:spPr>
          <a:xfrm>
            <a:off x="3514680" y="-2622960"/>
            <a:ext cx="5594400" cy="1135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يس كِلَّك لأ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يَّرت الدنيي كِلاّ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َن أرضَك لا تتخلّ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قديس الـمِن عِنَّا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-71604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539640" y="3141720"/>
            <a:ext cx="651672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بنان هالأرزة الخضرا عندو شربل والعدرا</a:t>
            </a:r>
            <a:r>
              <a:rPr b="0" lang="ar-SA" sz="7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342800" y="3429000"/>
            <a:ext cx="9518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شربل منَّك نظر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عا لبنان وطمنّ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1060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142920" y="313848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538280" y="3379680"/>
            <a:ext cx="10382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91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7:17:35Z</dcterms:created>
  <dc:creator>Charbel Azar</dc:creator>
  <dc:description/>
  <dc:language>en-US</dc:language>
  <cp:lastModifiedBy>ف</cp:lastModifiedBy>
  <dcterms:modified xsi:type="dcterms:W3CDTF">2007-07-13T15:31:59Z</dcterms:modified>
  <cp:revision>13</cp:revision>
  <dc:subject/>
  <dc:title>Slide 1</dc:title>
</cp:coreProperties>
</file>